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66D-9822-4C0A-BBB1-A87DDF38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B75-59A4-4103-B9E3-23B2F49E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83F-D031-40FC-B2E3-B3D292D2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4E6-7045-49FB-B8CD-C075CFA2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772A-869A-466D-AAEA-2E2A47A7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AC70-164F-4B0C-9ADC-2D8DE4E1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BCC4-681F-4C14-8937-5667B9A9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96CE-ECD9-405D-BD52-A3ACA408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42E0-3391-4560-9BC4-B42EE371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9C79-DE1E-4F5D-A7FA-5E66A7A2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DAB3-5902-4DE9-BB01-ABF3B480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134-C7A1-464B-B6AB-3A770352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012D-B321-4434-BCB2-5E102619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3D5A-F45B-4B95-94C0-609BA563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D6AC-975F-417A-AA5C-94569D8B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E42B-823C-4341-AED2-F6C60951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227A-103B-40A4-BBFD-B57CACCF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C0B-989C-498B-AA44-1BDF2E3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5B9-4F6A-4C92-9AEF-82B2A91A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13B-6F03-465E-8D28-A979635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EB4-1F6C-4F54-BC6B-207799A1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A0F-0C7D-4A00-A01B-6E5F6A2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8C8-0066-480A-AB32-DDE86799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4F5-7674-4EBF-BA04-4FECB8F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188C-3BCE-4B44-9087-C3C8846D03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1B88-B38B-4E34-A8DD-2D7EC333301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citing Englis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pt. 2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and out book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ad prefa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 to library to do assig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O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l 6 companies boards of directors met in the studioes of the hoover building at the corner of hwy. thirty-six and state st. on feb. 5 199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ert:Activity:: dead: ________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wboat:barge::locomotive:_______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 Ke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l six companies’ boards of directors met in the studios of the Hoover Building at the corner of highway 36 and State Street on February 5, 199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8:15:51Z</dcterms:created>
  <dc:creator>student</dc:creator>
  <dc:description/>
  <dc:language>en-US</dc:language>
  <cp:lastModifiedBy>Angie McCall</cp:lastModifiedBy>
  <dcterms:modified xsi:type="dcterms:W3CDTF">2011-09-21T21:32:25Z</dcterms:modified>
  <cp:revision>3</cp:revision>
  <dc:subject/>
  <dc:title>Exciting English</dc:title>
</cp:coreProperties>
</file>